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40C-B8A3-4AD0-94C1-6806DFA9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B60-DB5D-4F10-B3E6-5019BB69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B46-2EFE-4E5B-903C-68451DEB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1BC-2DE2-4490-B998-19048E8F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1DC-41CF-477E-AD51-2BFFE74B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A82-F744-4169-B43C-0953DFEC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E9C-B844-4944-AF28-5E958256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32E-72DE-4342-8118-11133752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895-BF83-4767-8A1B-69BFDAA9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AB4-CA59-41CA-ABA1-4351588F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7CD-6A0B-496D-8554-7B0AB2D5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238-47B2-4E6D-8585-161C49F3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2624-3AFA-4BE3-8265-D3D711ACC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irtualprojectconsulting.com/images/sci_17_hand.gif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acebook.com/album.php?profile=1&amp;id=1316780379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304920"/>
            <a:ext cx="6271920" cy="314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olden Ratio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20620800">
            <a:off x="0" y="4495320"/>
            <a:ext cx="8801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y-Kaevaan Setalvad of Grade 7.2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228600"/>
            <a:ext cx="8229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autiful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00760" y="14479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152280"/>
            <a:ext cx="861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lebrity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1176480"/>
                <a:gridCol w="1185840"/>
                <a:gridCol w="1164960"/>
                <a:gridCol w="1175040"/>
                <a:gridCol w="1176120"/>
                <a:gridCol w="1174680"/>
                <a:gridCol w="1176480"/>
              </a:tblGrid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/Eye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/       Teeth         Ratio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: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: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: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beautiful people and normal people do have different ratios, beautiful people have a ratio close to 1.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2860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aring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619520" cy="2857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657600" y="4559400"/>
            <a:ext cx="4724280" cy="2298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4920" y="2286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den Ratio Exampl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cient Greek ruins from the Acropolis 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hens. Thisis where the Parthenon is buil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006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lden Ratio in your own bod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projectconsulting.com/images/sci_17_hand.gi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2286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teresting Site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really enjoyed this investigation. It was not like the normal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e Golden ratio concept, is an interesting 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2286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flection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Eye- 3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the Bridge of my Nose- 2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Smile-8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Teeth when I smile- 6.5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2286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y Measurment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ridge width/Eye width= 2/3= 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uth width/Teeth width= 8/5.5= 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, the two are not exactly the same, but they are very close to each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228600"/>
            <a:ext cx="883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tio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 Width= 1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e Width=1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 Width= 1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th Width= 10m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52280"/>
            <a:ext cx="89154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i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rofile_pic" descr="Kaevaan Setalv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676520"/>
            <a:ext cx="28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28600"/>
            <a:ext cx="861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y Friend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195560"/>
          <a:ext cx="8305200" cy="5357160"/>
        </p:xfrm>
        <a:graphic>
          <a:graphicData uri="http://schemas.openxmlformats.org/drawingml/2006/table">
            <a:tbl>
              <a:tblPr/>
              <a:tblGrid>
                <a:gridCol w="1187280"/>
                <a:gridCol w="1187280"/>
                <a:gridCol w="1183680"/>
                <a:gridCol w="1188720"/>
                <a:gridCol w="1183680"/>
                <a:gridCol w="1187280"/>
                <a:gridCol w="1187280"/>
              </a:tblGrid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/Eye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/       Teeth         Ratio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: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8: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s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: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1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k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: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: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sh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: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dh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a few of them were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y were not very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2286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aring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52280" y="228600"/>
            <a:ext cx="8763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dults Measurment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676520"/>
          <a:ext cx="8686440" cy="3124080"/>
        </p:xfrm>
        <a:graphic>
          <a:graphicData uri="http://schemas.openxmlformats.org/drawingml/2006/table">
            <a:tbl>
              <a:tblPr/>
              <a:tblGrid>
                <a:gridCol w="1448280"/>
                <a:gridCol w="1447560"/>
                <a:gridCol w="1448280"/>
                <a:gridCol w="1446120"/>
                <a:gridCol w="1447920"/>
                <a:gridCol w="14482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  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Eye   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Teeth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: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the two ratios are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very similar to those of my cla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228600"/>
            <a:ext cx="845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servations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4-25T12:09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